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5FDB-F165-47E1-90EE-7F733350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03A9-F246-4759-B0DA-C8B3EA5F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EAD2-BCF6-49A8-A020-568DC4E1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163E-4561-40F0-9DA4-54DEDE27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A4BB-F615-4755-ADD8-E1C1809D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9962-78AA-4B72-A06D-99B977F4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6619-3F89-4723-A790-BF890A48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4C0F-E5CD-4FA4-90DE-3654EB92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495B-8693-4461-B972-2CE7BD56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23D6-8A9E-4C16-A01B-0A07A646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DAB1-FE50-4A75-B866-DA8B92DA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E58F-86D8-40A8-BFBD-2BBE2C84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FA21-5BB8-465D-84DB-B1BA81835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38 Sám uchop moju ruk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uchop moju ruk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ždy ma ve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 zmätku, sveta ruch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ísť neviem vp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teba, drahý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am by som šiel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 tvojom večnom sta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 život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teba všetko chladné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svete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c smrti všade vlád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et náde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o z teba život prúd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 svetla j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z mrákot hriechu bud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edie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 tvoja štedrá ruk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dobro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 znova z lásky núk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r život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tvojej ruky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svoju d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teba odovzda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a spolieha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8T09:52:32Z</dcterms:modified>
  <cp:revision>20</cp:revision>
  <dc:subject/>
  <dc:title>Je veľký náš Pán, on slávy je Kráľ Nech do všetkých strán  spev vrúcnych znie chvál.</dc:title>
</cp:coreProperties>
</file>